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F52E-B11E-4843-B837-D1647B22316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llo meine Damen und Her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ch bin Sascha Hemminger, studiere Informatik Fh Giessen, dürfte Ihnen bekannt s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ue mich, daß ich heute abend hier über das Application Facade Beispiel M.Fowlers referieren dar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, daß man „Student“ durch z.B. „Tutor“ ersetzen könnte (Vererbu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etrieve kann Collection liefern, update hat dann add und dele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ottklasse: leigt schon 1,5 Jahre zurück, Zeitdruck, sollte so niemals aussehen, siehe Folie vorh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MI: auch Bildung komplexerer Attributtypen durch Vererb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eige: retrieve update validate legalvalues (z.B.LO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i Measurement und Observation sorgt knowledge level dafür, daß man das System zur Laufzeit rekonfigurieren kann! RANG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hrt zu eigenwilliger Umsetzung mit Attributen als direktem Typ, das führt Observationkonzept ad absurdu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allo meine Damen und Her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ch bin Sascha Hemminger, studiere Informatik Fh Giessen, dürfte Ihnen bekannt s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reue mich, daß ich heute abend hier über das Application Facade Beispiel M.Fowlers referieren dar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hrt zu eigenwilliger Umsetzung mit Attributen als direktem Typ, das führt Observationkonzept ad absurdu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nalysmuster helfen Fachwissen zu transportiere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ch fragen? Dann hoffe ich sie sind jetzt so schlau wie der und bedanke mich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707-1C60-4916-BCC6-F66830C1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09C-D7FB-49C4-817F-BB575FD97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C614-4538-4E18-9378-52D759A7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A54C-DC73-496E-A398-2988F0A1C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FA4F-B36A-42AF-A61A-C8D4B67E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66CD-6089-403D-8D02-9EB7075E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DB48-A459-4BC0-9719-077A12B4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7526-0D74-4B69-BED4-35BD0972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FA5D-0222-4EDB-912F-B6823789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8553-8285-462E-A659-2CEC87BAB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3F3C-03A6-4F9C-8479-6216B8CF6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BF29-8C44-4C00-9044-1DA186E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1C915-DC15-48F4-A47D-32C85BFB41F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omic Sans MS"/>
              </a:rPr>
              <a:t>Fowler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Comic Sans MS"/>
              </a:rPr>
              <a:t>Application F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çades und andere Analysemu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ie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258920" y="1197000"/>
            <a:ext cx="6619680" cy="4525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279800" y="5877000"/>
            <a:ext cx="65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Hohe Koppelung, hohe Komplexität, keine Erweiterbarkeit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75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ie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332000" y="1197000"/>
            <a:ext cx="6573600" cy="4525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127880" y="5877000"/>
            <a:ext cx="69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rzeugt eine austauschbare Schnittstelle zum Geschäfts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81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as Mu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03640" y="2708280"/>
            <a:ext cx="2665440" cy="2067480"/>
            <a:chOff x="3203640" y="2708280"/>
            <a:chExt cx="2665440" cy="2067480"/>
          </a:xfrm>
        </p:grpSpPr>
        <p:sp>
          <p:nvSpPr>
            <p:cNvPr id="185" name=""/>
            <p:cNvSpPr/>
            <p:nvPr/>
          </p:nvSpPr>
          <p:spPr>
            <a:xfrm>
              <a:off x="3203640" y="2708280"/>
              <a:ext cx="2665440" cy="20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63280" y="2786040"/>
              <a:ext cx="18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ApplicationFaca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3640" y="320364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19640" y="3284640"/>
              <a:ext cx="201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-   subject: Pat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3640" y="3616200"/>
              <a:ext cx="266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41160" y="3616200"/>
              <a:ext cx="22809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+   retrieveAttribute1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+   updateAttribute1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~   attribute1LegalValues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~   validateAttribute1()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-   setDefaultAttribute1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210600" y="1989000"/>
            <a:ext cx="33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= getAttribute1(), liefert den W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2349360"/>
            <a:ext cx="1584360" cy="136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93680" y="530064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= setAttribute1(), setzt neuen W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258920" y="4005360"/>
            <a:ext cx="20890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580480" y="6093000"/>
            <a:ext cx="368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initialisiert Attribut mit Standardw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356000" y="4724280"/>
            <a:ext cx="0" cy="136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65880" y="1989000"/>
            <a:ext cx="315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gibt erlaubte Werte für Attrib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263560" y="5300640"/>
            <a:ext cx="350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mic Sans MS"/>
              </a:rPr>
              <a:t>überprüft neue Werte auf Leg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5219280" y="443664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5364000" y="2205000"/>
            <a:ext cx="1656000" cy="187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02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722680" y="0"/>
            <a:ext cx="642132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04560" y="1484280"/>
            <a:ext cx="229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Comic Sans MS"/>
              </a:rPr>
              <a:t>Cave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: bei direk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setzung enste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ine „Gottklasse“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411280" y="2205000"/>
            <a:ext cx="554544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80000" y="4292640"/>
            <a:ext cx="1152360" cy="115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9640" y="5516640"/>
            <a:ext cx="19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achträglich implementi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ttri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stCxn id="208" idx="3"/>
            <a:endCxn id="207" idx="2"/>
          </p:cNvCxnSpPr>
          <p:nvPr/>
        </p:nvCxnSpPr>
        <p:spPr>
          <a:xfrm flipV="1">
            <a:off x="2448000" y="4868280"/>
            <a:ext cx="1332720" cy="110700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ff0000"/>
            </a:solidFill>
            <a:miter/>
          </a:ln>
        </p:spPr>
      </p:cxnSp>
    </p:spTree>
  </p:cSld>
  <p:transition>
    <p:wheel spokes="3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11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Mustersammelsurium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linisches Informations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3"/>
          <a:stretch/>
        </p:blipFill>
        <p:spPr>
          <a:xfrm>
            <a:off x="1908000" y="1289160"/>
            <a:ext cx="6985080" cy="52419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0" y="2133360"/>
            <a:ext cx="317808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pplication Faç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eas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servation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enomenon with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uant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nowledg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 Singleton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17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916360" y="2997360"/>
            <a:ext cx="2552400" cy="15620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594440" y="1197000"/>
            <a:ext cx="591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zu einem Typ gibt es viele ähnlich geartete Attrib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rfassung vieler Einzelmessungen für ein Attrib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476360" y="558972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in neuer Typ, so daß einzelne Messungen durch Objekte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genau dieses Typs repräsentiert we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4"/>
          <a:stretch/>
        </p:blipFill>
        <p:spPr>
          <a:xfrm>
            <a:off x="2556000" y="1268280"/>
            <a:ext cx="4038480" cy="423864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4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25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Observation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3"/>
          <a:stretch/>
        </p:blipFill>
        <p:spPr>
          <a:xfrm>
            <a:off x="2484360" y="2060640"/>
            <a:ext cx="4038840" cy="3030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373840" y="119700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robl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er Wert eines Attributes ist qualita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95640" y="5445000"/>
            <a:ext cx="65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terscheide zwischen Messergebnissen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uftretenden Phänome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beides sind aber Beobach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1908000" y="1268280"/>
            <a:ext cx="5616720" cy="42706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33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System in Ak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179280" y="1125360"/>
            <a:ext cx="8713800" cy="5434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38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ritik a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34600" y="1581120"/>
            <a:ext cx="811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irekte Umsetzung der Fassade führt zu einer bedenklichen „Gottklasse“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4932360" y="2060640"/>
            <a:ext cx="2560680" cy="4525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377000" y="3645000"/>
            <a:ext cx="283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32 public Methoden 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140360" y="3860640"/>
            <a:ext cx="2087280" cy="360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1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46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ritik a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2771640" y="2013120"/>
            <a:ext cx="6372360" cy="48448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993680" y="1557360"/>
            <a:ext cx="480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Observation“ wird nicht richtig umgesetz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4"/>
          <a:stretch/>
        </p:blipFill>
        <p:spPr>
          <a:xfrm>
            <a:off x="108000" y="386064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476360" y="4437000"/>
            <a:ext cx="1440000" cy="792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093080" y="2852640"/>
            <a:ext cx="2050920" cy="180036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4" name=""/>
          <p:cNvCxnSpPr>
            <a:stCxn id="252" idx="6"/>
            <a:endCxn id="253" idx="2"/>
          </p:cNvCxnSpPr>
          <p:nvPr/>
        </p:nvCxnSpPr>
        <p:spPr>
          <a:xfrm flipV="1">
            <a:off x="2924280" y="3752280"/>
            <a:ext cx="4161600" cy="1081800"/>
          </a:xfrm>
          <a:prstGeom prst="straightConnector1">
            <a:avLst/>
          </a:prstGeom>
          <a:ln w="15840">
            <a:solidFill>
              <a:srgbClr val="ff0000"/>
            </a:solidFill>
            <a:miter/>
          </a:ln>
        </p:spPr>
      </p:cxnSp>
    </p:spTree>
  </p:cSld>
  <p:transition>
    <p:wheel spokes="3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48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203560" y="2492280"/>
            <a:ext cx="509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llgemeines zu Analysemu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pplication F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ç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Sonstige Muster im Beisp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Krit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Live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5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56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ritik a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1720" y="1557360"/>
            <a:ext cx="569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as führt zu einem eigenartigem Attributkonz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2050920" y="2349360"/>
            <a:ext cx="5505480" cy="58788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1979640" y="2205000"/>
            <a:ext cx="4392720" cy="4653000"/>
          </a:xfrm>
          <a:custGeom>
            <a:avLst/>
            <a:gdLst>
              <a:gd name="textAreaLeft" fmla="*/ 214200 w 4392720"/>
              <a:gd name="textAreaRight" fmla="*/ 4178520 w 4392720"/>
              <a:gd name="textAreaTop" fmla="*/ 214200 h 4653000"/>
              <a:gd name="textAreaBottom" fmla="*/ 4438800 h 4653000"/>
            </a:gdLst>
            <a:ahLst/>
            <a:rect l="textAreaLeft" t="textAreaTop" r="textAreaRight" b="textAreaBottom"/>
            <a:pathLst>
              <a:path w="21600" h="22880">
                <a:moveTo>
                  <a:pt x="3600" y="0"/>
                </a:moveTo>
                <a:arcTo wR="3600" hR="3600" stAng="16200000" swAng="-5400000"/>
                <a:lnTo>
                  <a:pt x="0" y="19280"/>
                </a:lnTo>
                <a:arcTo wR="3600" hR="3600" stAng="10800000" swAng="-5400000"/>
                <a:lnTo>
                  <a:pt x="18000" y="2288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mph" presetID="35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 calcmode="discrete" valueType="num">
                                      <p:cBhvr additive="repl">
                                        <p:cTn id="46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63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Kritik am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33480" y="1557360"/>
            <a:ext cx="163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ber es zeig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322720" y="1557360"/>
            <a:ext cx="54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aß bei sinnvollem Einsatz von Analysemuster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48120" y="2133720"/>
            <a:ext cx="61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ie Domäne des Kunden schneller zu durchdringen 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die Stabilität und die Qualität überhaupt ste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eine extrem hohe Flexibilität erreicht werden kan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012320" y="3452760"/>
            <a:ext cx="174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nd zwar wei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4005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man das bereits praxiserprobte Wissen eines Exper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(mit höherer Kompetenz) für eigene Zwecke nutzt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272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87640" y="1484280"/>
            <a:ext cx="2982960" cy="4176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81640" y="2624040"/>
            <a:ext cx="142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805800" y="2492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!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Wie funktionieren Analysemust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5219640" cy="22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 found this book very hard to work with […] I’ve had colleagues also attempt to get to grips with this book to see if was just me, but all of us have had the same problems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60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5084640"/>
            <a:ext cx="521964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hat’s one of the books worth reading.Describing higher level patterns than GOF “Design Patterns” it is a source of inspiration for analyst and designer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5435640" y="1628640"/>
            <a:ext cx="3292560" cy="4525920"/>
          </a:xfrm>
          <a:prstGeom prst="rect">
            <a:avLst/>
          </a:prstGeom>
          <a:ln w="0">
            <a:noFill/>
          </a:ln>
        </p:spPr>
      </p:pic>
      <p:grpSp>
        <p:nvGrpSpPr>
          <p:cNvPr id="64" name=""/>
          <p:cNvGrpSpPr/>
          <p:nvPr/>
        </p:nvGrpSpPr>
        <p:grpSpPr>
          <a:xfrm>
            <a:off x="1908000" y="3068640"/>
            <a:ext cx="1366920" cy="1655640"/>
            <a:chOff x="1908000" y="3068640"/>
            <a:chExt cx="1366920" cy="1655640"/>
          </a:xfrm>
        </p:grpSpPr>
        <p:sp>
          <p:nvSpPr>
            <p:cNvPr id="65" name=""/>
            <p:cNvSpPr/>
            <p:nvPr/>
          </p:nvSpPr>
          <p:spPr>
            <a:xfrm>
              <a:off x="1908000" y="3068640"/>
              <a:ext cx="719280" cy="10810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2482560" y="3573000"/>
              <a:ext cx="144720" cy="576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482560" y="3573360"/>
              <a:ext cx="792360" cy="1150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1042560" y="1844280"/>
            <a:ext cx="70563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mechanisches “ Verständnis von Patterns als konkrete Problemlösungsschablon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ins-zu-eins-Umsetzung von Analysemus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Versuche Analysemuster mit Designpatterns gleichzusetz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Softwareentwickler kleben an der konkreten Vorstellung eines in Code gegossenen System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Probleme mit Analysemust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4520" y="5132520"/>
            <a:ext cx="8574840" cy="703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ösen Sie sich von der Technik und verlassen Sie sich auf Ihren Versta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ogito ergo sum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75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nalysemuster im Entwicklungs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340000" y="2060640"/>
            <a:ext cx="496728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89440" y="2060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340000" y="414972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16200000">
            <a:off x="1015560" y="51087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konkrete 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987480" y="28540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bstrakte 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87120" y="15573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roblem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03160" y="15573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ösungs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loud"/>
          <p:cNvSpPr/>
          <p:nvPr/>
        </p:nvSpPr>
        <p:spPr>
          <a:xfrm>
            <a:off x="2413080" y="4292640"/>
            <a:ext cx="2232000" cy="1785960"/>
          </a:xfrm>
          <a:prstGeom prst="pie">
            <a:avLst/>
          </a:prstGeom>
          <a:solidFill>
            <a:srgbClr val="cc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700360" y="2205000"/>
            <a:ext cx="1800360" cy="18003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e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076720" y="2276640"/>
            <a:ext cx="2016360" cy="16570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ign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6720" y="4365720"/>
            <a:ext cx="2016360" cy="172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ier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3716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306864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8472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87240" y="4005360"/>
            <a:ext cx="991440" cy="36828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aly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6880" y="2205000"/>
            <a:ext cx="1715400" cy="368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04320" y="3933720"/>
            <a:ext cx="187848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lementier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1628640"/>
            <a:ext cx="4464360" cy="3875400"/>
          </a:xfrm>
          <a:custGeom>
            <a:avLst/>
            <a:gdLst/>
            <a:ahLst/>
            <a:rect l="l" t="t" r="r" b="b"/>
            <a:pathLst>
              <a:path w="3552" h="3031">
                <a:moveTo>
                  <a:pt x="2131" y="1912"/>
                </a:moveTo>
                <a:cubicBezTo>
                  <a:pt x="2131" y="2040"/>
                  <a:pt x="2418" y="2419"/>
                  <a:pt x="2131" y="2547"/>
                </a:cubicBezTo>
                <a:cubicBezTo>
                  <a:pt x="1844" y="2675"/>
                  <a:pt x="688" y="3031"/>
                  <a:pt x="408" y="2683"/>
                </a:cubicBezTo>
                <a:cubicBezTo>
                  <a:pt x="128" y="2335"/>
                  <a:pt x="0" y="868"/>
                  <a:pt x="453" y="460"/>
                </a:cubicBezTo>
                <a:cubicBezTo>
                  <a:pt x="906" y="52"/>
                  <a:pt x="2706" y="0"/>
                  <a:pt x="3129" y="234"/>
                </a:cubicBezTo>
                <a:cubicBezTo>
                  <a:pt x="3552" y="468"/>
                  <a:pt x="3159" y="1610"/>
                  <a:pt x="2993" y="1867"/>
                </a:cubicBezTo>
                <a:cubicBezTo>
                  <a:pt x="2827" y="2124"/>
                  <a:pt x="2275" y="1769"/>
                  <a:pt x="2131" y="1776"/>
                </a:cubicBezTo>
                <a:cubicBezTo>
                  <a:pt x="1987" y="1783"/>
                  <a:pt x="2131" y="1784"/>
                  <a:pt x="2131" y="1912"/>
                </a:cubicBezTo>
                <a:close/>
              </a:path>
            </a:pathLst>
          </a:custGeom>
          <a:solidFill>
            <a:srgbClr val="808080">
              <a:alpha val="1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97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nalysemuster im Entwicklungsproz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340000" y="2060640"/>
            <a:ext cx="4967280" cy="424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9440" y="2060640"/>
            <a:ext cx="0" cy="424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40000" y="4149720"/>
            <a:ext cx="49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1015560" y="5108760"/>
            <a:ext cx="186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konkrete 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987480" y="28540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abstrakte Eb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87120" y="1557360"/>
            <a:ext cx="167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Problem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03160" y="155736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Lösungsr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2627280" y="5013360"/>
            <a:ext cx="1722600" cy="3715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629440" y="2781360"/>
            <a:ext cx="18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i neng shuo 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yidiar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860720" y="2781360"/>
            <a:ext cx="231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Können Sie bitte etw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langsamer sprechen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ubOvalCallout"/>
          <p:cNvSpPr/>
          <p:nvPr/>
        </p:nvSpPr>
        <p:spPr>
          <a:xfrm>
            <a:off x="5076720" y="4365720"/>
            <a:ext cx="1828800" cy="160020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175680 h 1600200"/>
              <a:gd name="textAreaBottom" fmla="*/ 1024920 h 160020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11280" y="450864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icht erfas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48440" y="227664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icht verst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75640" y="2060640"/>
            <a:ext cx="191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versta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nicht umgeset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56080" y="472428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umgeset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08000" y="1628640"/>
            <a:ext cx="4464360" cy="3875400"/>
          </a:xfrm>
          <a:custGeom>
            <a:avLst/>
            <a:gdLst/>
            <a:ahLst/>
            <a:rect l="l" t="t" r="r" b="b"/>
            <a:pathLst>
              <a:path w="3552" h="3031">
                <a:moveTo>
                  <a:pt x="2131" y="1912"/>
                </a:moveTo>
                <a:cubicBezTo>
                  <a:pt x="2131" y="2040"/>
                  <a:pt x="2418" y="2419"/>
                  <a:pt x="2131" y="2547"/>
                </a:cubicBezTo>
                <a:cubicBezTo>
                  <a:pt x="1844" y="2675"/>
                  <a:pt x="688" y="3031"/>
                  <a:pt x="408" y="2683"/>
                </a:cubicBezTo>
                <a:cubicBezTo>
                  <a:pt x="128" y="2335"/>
                  <a:pt x="0" y="868"/>
                  <a:pt x="453" y="460"/>
                </a:cubicBezTo>
                <a:cubicBezTo>
                  <a:pt x="906" y="52"/>
                  <a:pt x="2706" y="0"/>
                  <a:pt x="3129" y="234"/>
                </a:cubicBezTo>
                <a:cubicBezTo>
                  <a:pt x="3552" y="468"/>
                  <a:pt x="3159" y="1610"/>
                  <a:pt x="2993" y="1867"/>
                </a:cubicBezTo>
                <a:cubicBezTo>
                  <a:pt x="2827" y="2124"/>
                  <a:pt x="2275" y="1769"/>
                  <a:pt x="2131" y="1776"/>
                </a:cubicBezTo>
                <a:cubicBezTo>
                  <a:pt x="1987" y="1783"/>
                  <a:pt x="2131" y="1784"/>
                  <a:pt x="2131" y="1912"/>
                </a:cubicBez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73240" y="2924280"/>
            <a:ext cx="196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nalysem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„</a:t>
            </a: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Übersetzer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76720" y="2133720"/>
            <a:ext cx="2016360" cy="18716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signmu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örterbuch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1125360"/>
            <a:ext cx="71640" cy="554364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421000"/>
            <a:ext cx="2808000" cy="2233440"/>
          </a:xfrm>
          <a:custGeom>
            <a:avLst/>
            <a:gdLst>
              <a:gd name="textAreaLeft" fmla="*/ 0 w 2808000"/>
              <a:gd name="textAreaRight" fmla="*/ 2808360 w 2808000"/>
              <a:gd name="textAreaTop" fmla="*/ 0 h 2233440"/>
              <a:gd name="textAreaBottom" fmla="*/ 2233800 h 223344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Analysemuster oder oo Prinzip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Comic Sans MS"/>
              </a:rPr>
              <a:t>This technique [Application Fa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çades] can be considered an addition to object oriented metho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apselung von Daten gemäß des Geheimnisprinz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ugriff durch Aksessoren, Manipulatoren, Validierer us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rektes Einfügen von Operationen bei Schichten / Modulen nicht möglich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ös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nalysemuster “Application Façade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42100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27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ie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457200" y="2438280"/>
            <a:ext cx="4038480" cy="2849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242100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4500720" y="2276640"/>
            <a:ext cx="4038480" cy="28000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179280" y="115920"/>
            <a:ext cx="2502360" cy="671400"/>
            <a:chOff x="179280" y="115920"/>
            <a:chExt cx="2502360" cy="67140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179280" y="115920"/>
              <a:ext cx="68580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693360" y="115920"/>
              <a:ext cx="198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S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ascha </a:t>
              </a:r>
              <a:r>
                <a:rPr b="0" i="1" lang="de-DE" sz="1800" spc="-1" strike="noStrike">
                  <a:solidFill>
                    <a:srgbClr val="000000"/>
                  </a:solidFill>
                  <a:latin typeface="Square721 BT"/>
                </a:rPr>
                <a:t>H</a:t>
              </a: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emmin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Square721 BT"/>
                </a:rPr>
                <a:t>FH Gießen-Friedberg</a:t>
              </a:r>
              <a:r>
                <a:rPr b="0" lang="de-D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Die Id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5280" y="2421000"/>
            <a:ext cx="367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684360" y="2565360"/>
            <a:ext cx="4068720" cy="2376360"/>
            <a:chOff x="684360" y="2565360"/>
            <a:chExt cx="4068720" cy="2376360"/>
          </a:xfrm>
        </p:grpSpPr>
        <p:sp>
          <p:nvSpPr>
            <p:cNvPr id="139" name=""/>
            <p:cNvSpPr/>
            <p:nvPr/>
          </p:nvSpPr>
          <p:spPr>
            <a:xfrm>
              <a:off x="2232000" y="2565360"/>
              <a:ext cx="792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08360" y="3429000"/>
              <a:ext cx="792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27280" y="3429000"/>
              <a:ext cx="792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00720" y="256536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961080" y="342900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024360" y="451008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27280" y="4149720"/>
              <a:ext cx="79236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61080" y="407664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84360" y="4149720"/>
              <a:ext cx="79200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8" name=""/>
            <p:cNvCxnSpPr>
              <a:stCxn id="141" idx="0"/>
              <a:endCxn id="139" idx="2"/>
            </p:cNvCxnSpPr>
            <p:nvPr/>
          </p:nvCxnSpPr>
          <p:spPr>
            <a:xfrm flipH="1" flipV="1" rot="5400000">
              <a:off x="2160360" y="2960280"/>
              <a:ext cx="432720" cy="50544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49" name=""/>
            <p:cNvCxnSpPr>
              <a:stCxn id="145" idx="0"/>
              <a:endCxn id="141" idx="2"/>
            </p:cNvCxnSpPr>
            <p:nvPr/>
          </p:nvCxnSpPr>
          <p:spPr>
            <a:xfrm flipV="1">
              <a:off x="2124000" y="3860280"/>
              <a:ext cx="1080" cy="289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0" name=""/>
            <p:cNvCxnSpPr>
              <a:stCxn id="147" idx="3"/>
              <a:endCxn id="145" idx="1"/>
            </p:cNvCxnSpPr>
            <p:nvPr/>
          </p:nvCxnSpPr>
          <p:spPr>
            <a:xfrm>
              <a:off x="1476000" y="4365000"/>
              <a:ext cx="2516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1" name=""/>
            <p:cNvCxnSpPr>
              <a:stCxn id="140" idx="0"/>
              <a:endCxn id="139" idx="2"/>
            </p:cNvCxnSpPr>
            <p:nvPr/>
          </p:nvCxnSpPr>
          <p:spPr>
            <a:xfrm flipV="1" rot="16200000">
              <a:off x="2700720" y="2924280"/>
              <a:ext cx="432720" cy="57708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2" name=""/>
            <p:cNvCxnSpPr>
              <a:stCxn id="139" idx="3"/>
              <a:endCxn id="142" idx="1"/>
            </p:cNvCxnSpPr>
            <p:nvPr/>
          </p:nvCxnSpPr>
          <p:spPr>
            <a:xfrm>
              <a:off x="3024000" y="2780640"/>
              <a:ext cx="577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3" name=""/>
            <p:cNvCxnSpPr>
              <a:stCxn id="143" idx="0"/>
              <a:endCxn id="142" idx="2"/>
            </p:cNvCxnSpPr>
            <p:nvPr/>
          </p:nvCxnSpPr>
          <p:spPr>
            <a:xfrm flipV="1" rot="16200000">
              <a:off x="3961080" y="3032280"/>
              <a:ext cx="432720" cy="361080"/>
            </a:xfrm>
            <a:prstGeom prst="bentConnector3">
              <a:avLst>
                <a:gd name="adj1" fmla="val 49958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4" name=""/>
            <p:cNvCxnSpPr>
              <a:stCxn id="144" idx="1"/>
              <a:endCxn id="145" idx="3"/>
            </p:cNvCxnSpPr>
            <p:nvPr/>
          </p:nvCxnSpPr>
          <p:spPr>
            <a:xfrm rot="10800000">
              <a:off x="2518920" y="4364640"/>
              <a:ext cx="505440" cy="361080"/>
            </a:xfrm>
            <a:prstGeom prst="bentConnector3">
              <a:avLst>
                <a:gd name="adj1" fmla="val 49964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5" name=""/>
            <p:cNvCxnSpPr>
              <a:stCxn id="146" idx="0"/>
              <a:endCxn id="143" idx="2"/>
            </p:cNvCxnSpPr>
            <p:nvPr/>
          </p:nvCxnSpPr>
          <p:spPr>
            <a:xfrm flipV="1">
              <a:off x="4357440" y="3860280"/>
              <a:ext cx="1080" cy="216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56" name=""/>
            <p:cNvCxnSpPr>
              <a:stCxn id="144" idx="3"/>
              <a:endCxn id="146" idx="2"/>
            </p:cNvCxnSpPr>
            <p:nvPr/>
          </p:nvCxnSpPr>
          <p:spPr>
            <a:xfrm flipV="1">
              <a:off x="3816360" y="4507920"/>
              <a:ext cx="542160" cy="218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157" name=""/>
          <p:cNvSpPr/>
          <p:nvPr/>
        </p:nvSpPr>
        <p:spPr>
          <a:xfrm>
            <a:off x="6694560" y="2781360"/>
            <a:ext cx="1730160" cy="1730160"/>
          </a:xfrm>
          <a:prstGeom prst="smileyFace">
            <a:avLst>
              <a:gd name="adj" fmla="val -131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674360" y="5465880"/>
            <a:ext cx="187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eschäfts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842520" y="5373720"/>
            <a:ext cx="138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nwen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9640" y="1341360"/>
            <a:ext cx="1584360" cy="11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1413000"/>
            <a:ext cx="6408720" cy="4824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Notfallpatien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694560" y="2781360"/>
            <a:ext cx="1730160" cy="1730160"/>
          </a:xfrm>
          <a:prstGeom prst="smileyFace">
            <a:avLst>
              <a:gd name="adj" fmla="val 37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59640" y="1341360"/>
            <a:ext cx="1584360" cy="11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413000"/>
            <a:ext cx="6408720" cy="48243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Blutspe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694560" y="2781360"/>
            <a:ext cx="1730160" cy="1730160"/>
          </a:xfrm>
          <a:prstGeom prst="smileyFace">
            <a:avLst>
              <a:gd name="adj" fmla="val 92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59640" y="1341360"/>
            <a:ext cx="1584360" cy="11527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tebulb"/>
          <p:cNvSpPr/>
          <p:nvPr/>
        </p:nvSpPr>
        <p:spPr>
          <a:xfrm>
            <a:off x="8101080" y="1557360"/>
            <a:ext cx="503280" cy="792000"/>
          </a:xfrm>
          <a:prstGeom prst="pie">
            <a:avLst/>
          </a:pr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4:05:39Z</dcterms:created>
  <dc:creator>Sascha Hemminger</dc:creator>
  <dc:description/>
  <dc:language>en-US</dc:language>
  <cp:lastModifiedBy>Sascha Hemminger</cp:lastModifiedBy>
  <dcterms:modified xsi:type="dcterms:W3CDTF">2005-02-01T15:31:22Z</dcterms:modified>
  <cp:revision>86</cp:revision>
  <dc:subject/>
  <dc:title>Fowler revisited</dc:title>
</cp:coreProperties>
</file>